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A09-8C17-42EB-8810-D2BDE351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DCF-12B7-433F-94BD-B08BBDFC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F16-6B4B-4CBD-93C7-E55EE0AC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6C8-28A2-461F-A6AB-C4192BFB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271A-1A45-42B1-9F91-FE6928A3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A83C-F4AC-43B9-AE91-0A99BC89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455E-7D52-48F5-801A-700C0D4E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0EDF-9178-4521-A801-12BE09A4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4480-83E3-462F-8103-37C267CC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3599-5E7C-431A-BF9A-C2C9142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95AA-1BCC-40B1-926A-7630E57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E1D-D2B4-4220-A0FD-3A4FCE0F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0AAC-B285-4E5B-BFBA-50CE48C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6BA6-E4A4-4958-A7E3-FBEE1491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FA12-43BA-4FC2-A9BE-E154441A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4D48-7D94-4E4C-A657-0254DE24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33F9-A51C-4744-8A27-2B7375D3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26AA-0A4F-43E0-939E-4C7C0A46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3C88-9093-46A5-9B76-E11D907F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A928-6F9C-4B15-8B37-4C4BFC48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3813-F06F-4C58-B74E-F3E13C1C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D721-7D75-4026-9075-05C81CAD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95A-8FB2-4F46-87F2-49DE9EF7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B4FF-A29A-449E-9A29-12507412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1093B-FF0E-439D-9AB6-7B1C531D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88D8-EABC-438D-9E7C-513DCB96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75DF-6EE4-47DA-B5F0-B4D4C636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A146-A7D8-43BC-9B15-CDD7E7F9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1D36-F21C-4AA3-A0CB-F2EA3E91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71E0-59E7-47A3-B6A4-3C211563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1F6-098A-40C6-A60C-6DBBFB0A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E5F-274F-49FE-9C4D-11D8CA3A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918-8D5E-4BF1-A8C8-99400072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FE3-8CB0-4844-8C9B-3A03D39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A14-BDCD-41A0-8DC0-8FAA924F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ECE-3611-496E-8DFF-8FCCF4E9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698F-01C1-4F45-8ED2-62B4707DD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6CFC-24BA-4CE1-A37C-E6D1EE762E55}" type="slidenum">
              <a:rPr b="0" lang="en-US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BCE5-D001-43F3-826A-9DC1204203F2}" type="slidenum"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Minors &amp; Medicin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4724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Aaron Fleming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Alex Ston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Ava Tompkin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Brad Herzlich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ociolog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Lawy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2857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6:10:51Z</dcterms:created>
  <dc:creator>Fl</dc:creator>
  <dc:description/>
  <cp:keywords/>
  <dc:language>en-US</dc:language>
  <cp:lastModifiedBy>Fl</cp:lastModifiedBy>
  <dcterms:modified xsi:type="dcterms:W3CDTF">2008-05-21T16:30:47Z</dcterms:modified>
  <cp:revision>2</cp:revision>
  <dc:subject/>
  <dc:title>Minors &amp; Medic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33</vt:lpwstr>
  </property>
</Properties>
</file>